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C31CA-4064-4C17-9C02-65F1DD9BF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4BD6A-1ADE-43D4-9A34-5B0742C067D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7ECB9-E021-4538-927E-DD515179E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D6948-5CB7-4371-91A5-AC1897F8E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07356-7E83-4E7E-B8C7-143083505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7157F-2A45-49C0-8E61-F5E895CF4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C78B-DF49-4463-BBFD-2E2A9D0FA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0BD5-84F6-439F-9E4E-E387EB03A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0957-31BA-44B1-A203-DDF8385D4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0CCD-A169-4891-AEE6-41E2CAC70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C486-8FDB-4FC0-93AB-FD4B83F8D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0D71-B9C7-4F0B-B846-F8B76BD45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800B-3EFD-4061-84DF-71FC6444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8DB0-4BAE-4C93-A599-B11CBE0A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5EF0-074F-4EFC-A9C9-CD5F639C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06AA-3E59-4241-A3E3-DDC81006F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579C-4FF5-4138-9EA6-738F4A659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75A3-86CD-4CDA-A039-EC60EE00B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3944F-B6D1-4E7E-A51E-683FDD17EE2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234936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ВРСТИ ПРЕПАРАТИ ЗА СПОЉАШЊУ ПРИМЕН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1187280" y="1268280"/>
            <a:ext cx="720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ска технологија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4356000" y="5589720"/>
            <a:ext cx="453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. др Ана Барјактареви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484280"/>
            <a:ext cx="86868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формулацији получврстих препарата треба узети 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зир особин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е сусптанце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астворљивост, концентрациј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логе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тип емулзије, стабилност, степен пенетрације, сопствено деловање у смислу оклузије, хидратације, емолијентног деловањ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же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стање, подручје коже, претходно лечењ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4"/>
          <p:cNvSpPr/>
          <p:nvPr/>
        </p:nvSpPr>
        <p:spPr>
          <a:xfrm>
            <a:off x="1547640" y="1341360"/>
            <a:ext cx="56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ђа ко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C:\Users\Ana Radovanovic\Downloads\koza.gif"/>
          <p:cNvPicPr/>
          <p:nvPr/>
        </p:nvPicPr>
        <p:blipFill>
          <a:blip r:embed="rId1"/>
          <a:stretch/>
        </p:blipFill>
        <p:spPr>
          <a:xfrm>
            <a:off x="1619280" y="1828800"/>
            <a:ext cx="4968720" cy="39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кат получврстих препарата на кож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овршини коже – локално деловањ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непосредну терапију кожних болести или кожних манифестација системских боле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 са кератолитицима, антисептицима, заштитне масти на бази силиконских једињења, препарати за сунчањ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кутана апсорпција и накупљање активне супстанце у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бљим слојевима кож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16208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 са антифлогистицима (против отеклина), антиреуматицима, антихистаминицима, кортикостероидима ит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Трансдермално – системско делов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а лековите супстанце на кожу са циљем да се постигне њен системски ниво и системско деловањ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 са нитроглицерином или атхезивни трансдермални терапијски систем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4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и који утичу на пенетрацију лековите супстанце у кожу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а супстан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а, величина молеку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љив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 јониз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ло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тав, струк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тициони коефицијент подл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аци – убрзивачи пенетрације (инхенсери): пропиленгликол, олеилолеат, изопропилмириста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39440" y="71424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а подлога 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r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31520" y="2212560"/>
            <a:ext cx="73184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водне подлоге - МАСТИ: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ларне подлоге (само масне компонент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сорпционе подлоге (базе): масне компоненте + емулгато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же ХЛБ вре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логе са макрогол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длоге са водом - КРЕМОВ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филни крем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пофилни крем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фифилни крем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836640"/>
            <a:ext cx="85755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23640" y="1988640"/>
            <a:ext cx="81356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тоје се од једнофазне подлоге у којој је диспергована једна или више лековитих супстанци чврсте или течне конзистенције. Могу бити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фобне масти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огу да апсорбују малу количину воде, за њихову израду користе се парафини (чврсти, меки и течни), биљна уља, воскови, жив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ињске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сти, синтетски глицерид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 које емулгују воду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мају способност да апсорбују већу количину воде, па се називају и апсорпционе базе. Подлози се додаје емулгатор типа В/У као што су безводни ланолин (холестерол), ланолински алкохоли, масни алкохол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филне масти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адрже подлоге које се мешају са водом (смеше течних и чврстих макрогола – полиетиленгликоли, ПЕГ) и могу да садрже одређену количину вод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280" y="83664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водне п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лог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35164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логе за хидрофобне масти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ларне подлоге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адрже воду, могу да емулгују малу количину воде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не компоненте које улазе у састав безводних подлог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љоводоници (чврсти и течни парафин, вазели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љна уља (маслиново, кикирикијево, сунцокретово, хидрирано рицинусов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кови (бели пчелињи восак -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a alba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жути -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a flava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taceum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нолин 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a lan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не киселине – стеаринска, олеин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и масни алкохоли (цетил-, стеарил-, цетостеарилалкохол, холестеро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њска маст – рет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етске масне материје - синтетски естри, полиалкилсилокса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xcipiens ad unguen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tibiotica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Jug.IV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79280" y="1267920"/>
            <a:ext cx="87854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логе типа апсорпционих база – могу да емулгују воду, захваљујући присутном емулгато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зависности од типа емулгатора могу бити липофилне и хидрофилне апсорпционе подлог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ИПОФИЛН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псорпционе подлоге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ш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пофилних састојака течне, получврсте и чврсте конзистенције 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/У емулгатора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холестерол, цетостеарол, естри сорбитан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a lanae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зводни ланолин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ш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љоводоника и слободних масних киселина, слободних алкохола и око 95% естара (холестерола и масних киселина) који омогућују да ланолин може да емулгује воду (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зује 200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д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хладно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57200" y="1484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ициналне липофилне апсорпционе подлог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ipiens ad unguenta (Ph.Jug. I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ipiens lanalcoli (Ph.Jug. I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guentum vaselini hydrophilicum (MF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coholes adipis lanae unguentum (MF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cerinum anhydric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фекат на кож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оклузија, машћење коже (хиперкератоз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врсти препарати за спољашњу примен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80010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врсти препарати за спољашњу употребу примењују се на кожу или слузокожу, у циљу постизања локалног деловања, перкутане пенетрације лековите супстанце, емолијентног или заштитног деловања (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Jug. V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врсти препарати за примену на кожи (</a:t>
            </a:r>
            <a:r>
              <a:rPr b="0" i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arationes molles ad usum dermicum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и за уш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и за о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и за н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тални препар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гинални препар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57200" y="1268280"/>
            <a:ext cx="83628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ХИДРОФИЛН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псорпционе подлоге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меша липофилних састојака течне, получврсте и чврсте конзистенције 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/В емулгатор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цетостеарилалкохол емулгујући тип А, цетостеарилалкохол емулгујући тип Б, мешавине нејонских емулгатор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и официналних подлог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ipiens emulsificans (Ph.Jug. I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guentum emulsificans anionicum III (MF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фекат на кож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дужа примена доводи до исушивања кож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57200" y="1197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логе с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РОГОЛИМ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ша макрогола (полиетиленгликола ПЕГ) течне и чврсте конзистенције са/без одговарајуће количине воде (15-20%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ициналне макроголне ма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идон јо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хидрофилн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 10% (МФ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ipiens macrogoli (Ph.Jug. I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фекат на кожи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ушивање масне коже, погодно к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боре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нкомпатибилиј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фин, вазелин; ПЕГ са сулфонамидом, таргезином, аминофеназоном даје обојена једињења; бацитрацин се инактивира у ПЕГ подлози; ПЕГ реагују са пластичном амбалажом (користити алуминијумску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логе са водом - кремов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916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мови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у вишефазни препарати следећег састава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на фаза + водена фаза + емулгатор или комбинација (мешани емулгатор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а: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5144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пофилни кремови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ремови– емулзије типа В/У= масни кремови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5144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филни кремови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ремови - емулзије типа У/В = водени кремови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5144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бифилни кремови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ремови - емулзије мешовитог типа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539280" y="1268280"/>
            <a:ext cx="83264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ација подлога типа емулзија, зависи од бројних фактора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налног типа емулзије, стања коже, врсте дерматоз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тојака масне фаз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са масне и водене фаз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ора емулгатора и ХЛБ вредно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стика лековите супстанце (пожељно је да је растворена у спољашњој фази због веће биорасположивост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5100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фобни, липофилни или масни кремови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 емулзиони системи типа В/У, садрже В/У емулгаторе (безводни ланолин (холестерол), естри сорбитана –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AN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моноестри глицерола-моноглицериди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100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ђују се емулговањем водене фазе у масну, претходно загрејане на одређеној температур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1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100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ipiens lanalcoli aquosum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h.Jug.IV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100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eps lanae cum aqua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h.Jug. V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100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kspantenol lipofilni krem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RF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100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klosan lipofilni krem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RF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100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guentum emolliens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h.Jug. IV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1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1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пофилни кремов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000" y="981000"/>
            <a:ext cx="80010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ине масни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ремова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001000" cy="50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39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-2286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ечавају одавање воде кроз кож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-2286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 примене-размазивања, вода испарава а на кожи остаје масни фил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-2286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изање емолијентног ефекта и благо оклузивног ефекта на кожи. Чине кожу меком и еластично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-2286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мови са цинк-оксидом или диметиконом штите кожу одојчади испод пелен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-2286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ољно делују на суве дерматоз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филни кремов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98900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филни, водени или периви кремов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емулзиони системи типа У/В, садрже У/В емулгаторе (натријумови или тр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ноламин сапуни; полисорбати-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wее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мешани емулгатор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ицинални су п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7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е хумектансе у конц. 5-10% који спречавају исушивање крема (глицерол, пропиленгликол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бог велике количине воде (60-70%) садрже конзервансе (сорбинска киселина, калијум-сорбат, парабен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2060280"/>
            <a:ext cx="88567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ко се размазују, не масте кож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-хладећи ефекат (при испаравању вод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одни за себороичну кожу, кожу која сврби, која је црвена и упаљ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одни за инкорпорирање хидросолубилних лековитих супстан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пог изгле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ономични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% је вод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аидиковани код себостазе и атопијског дерматитиса јер дуготрајна примена може довести до исушивања кож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ине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филних кремов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арински кремов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213372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филни кремови који се састоје од стеаринске киселине (масна фаза), водене фазе, базне компоненте (ТЕА, боракс, NaOH) и других помоћних компонен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улгује се масна у водену фазу, загрејане на 80-8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, при чему се у реакцији стеаринске киселине и базне компоненте гради мешани емулгатор (ТЕА- стеарат, Nа-стеарат итд.) и настаје емулзија типа У/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жи остављају мат филм, дају пријатан осећај и лако се спирају са кож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 се користе као кремови за дневну негу кож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280" y="981000"/>
            <a:ext cx="80010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бифилни кремов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50920" y="2014560"/>
            <a:ext cx="8642160" cy="48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5100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бифилни кремови - прелазни облик између У/В и В/У кремов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тоје се од масне, водене фазе и релативно великог удела одређених У/В и В/У емулгат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 да емулгују одређену количину уљаног раствора лековите супстанце (мин. 25%) при чему настаје стабилан крем типа В/У (без промене у конзистенциј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 да емулгују одређену количину воде и водених раствора лековите супстанце (мин. 25%) на собној температури и да настане стабилан крем типа У/В; ако је већа количина воденог раствора настаје стабилна течна емулзија – лосион типа емулзија У/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устријске амфифилне подлоге: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лсан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мбаз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одер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а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0" y="2205000"/>
            <a:ext cx="86868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врсти препарати за спољашњу примену се састоје из једноставних или сложених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лог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којима је једна или више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их супстанци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ена или диспергована (суспендован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ају бити хомогеног изглед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ају бити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илн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колико се примењују на велике, отворене ране или на озлеђену кож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и који нису стерилни морају да задовоље одговарајући микробилошки квалитет (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егорија 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едност би требало да буде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– 7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препарат не би утицао на физиолошки киселу реакцију кож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одне реолошке особи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826920" y="105264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ине получврстих препарата за примену на кож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10920" y="21333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едности</a:t>
            </a:r>
            <a:r>
              <a:rPr b="0" lang="sr-Latn-C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п изглед, добра размазивост, лако спир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одан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4 – 6), садржај воде око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а код већине дермат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да лековитих масти (кремова) на хладно (собна температур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да козметичких кремова и лосиона на хлад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разблаживање индустријски израђених кремова са кортикостероиди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бифилни кремов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250560" y="2420640"/>
            <a:ext cx="8281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ЗЕРВАНС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ите производ од микробиолошке контаминације у току израде/производње, паковања, складиштења и спречавају контаминацију у току употреб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Љ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да се осигура фармакопејски захтевана микробиолошка чистоћа препарата до истека рока употреб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морају се додавати у безводне (анхидроване ) препарате, али морају у хидрофилне кремове и гелов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 може бити смањена адсорпцијом на пластичну амбалажу или неке супстанце у препарату (талк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нк-оксид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468000" y="1052640"/>
            <a:ext cx="8001000" cy="128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ћне компоненте у изради масти и кремов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27720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тно је да се конзерванс боље раствара у воденој фази него у масној јер се и микроорганизми размножавају у воденој среди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7720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икасност мора бити потврђена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Jug.V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5.1.3 – Ефикасност конзерванс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7720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о је урадити добру процену односа ефикасности конзерванса и могућих нежељених дејстава за корисника (контактни дерматитис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7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7720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и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бен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1-0,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7720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илпарабен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02 – 0,0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7720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нзил алкохо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%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7720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рбинска кисели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05–0,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7720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-сорбат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1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оксиданс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920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ају се у циљу заштите компоненти препарата од оксидативних процеса, са циљем спречавања деградаци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не компоненте су најподложније оксидацији, па се антиоксиданси обавезно дадају мастима и кремовима типа В/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оксиданси се комбинују са синергистима (секундарним антиоксидансима) – постиже се већа стабилно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1341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920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47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и антиоксидана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547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547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H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бутилхидрокситол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– 0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547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H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бутилхидроксианизол)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– 0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547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ри галне киселине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05 – 0,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547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оферол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05 – 0,07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547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ри аскорбинске киселине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01 – 0,01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547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47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ерги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47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547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сфорна киселина                            0,01 – 0,0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547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корбинска киселина                       0,01 – 0,0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547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нска киселина                                 0,01 – 0,0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47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мектан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гроскопне материје које се додају у гелове и кремове - првенствено типа У/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ују воду за себе и на тај начин спречавају одавање воде из препарата и њихово исушивање у току чувања и употребе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цер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рбит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иленглик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1197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ДА ПОЛУЧВРСТИХ ПРЕПАРА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0440" y="2491920"/>
            <a:ext cx="78566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ЗБОР ПОСТУПКА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ЗАВИСИ О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ина лековитих супстан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ине препара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тава и типа подлог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истрална израда: патена, пистил, тарио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ленска израда и/или индустријска производња: дупликатори са округлим дном; мешалице (планетарне или пропелерског типа); хомогенизатори (разни, колоидни млинов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90080" y="1916280"/>
            <a:ext cx="877428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врста лековита супстанца се уситни до степена финог прашка и просеје кроз сито 0,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а поступ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вигације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а суптанца се меша са мало подлоге или неке течне компоненте подлоге (течни парафин, глицерол, ланолин) док не настане глатка дисперзија (пас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авање остатка подлоге до израде хомогене м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ља хомогеност масти у индустријским условима постиже се пропуштањем масти кроз троваља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ковање и сигнир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да масти типа суспензиј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539280" y="22046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2" marL="258480" indent="-2214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 типа раствор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уситњена лековита супстанца се раствара у подлози уз благо загревање по потреб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8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258480" indent="-2214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оненте подлоге се отопе на воденом купатилу (по опадајућој тачки топљења) и подлога додаје супстанци ради њеног растварања. Меша до хлађења на собној температур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8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258480" indent="-2214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арљиве, термолабилне супстанце (етарска уља или парфеми) додају се на температури 40-45 °С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8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258480" indent="-2214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е је лековиту супстанцу растворити у неком органском растварачу, а након мешања са подлогом растварач упарити благим загревањем – пр. маст са кортикостероидима и примена хлороформа као растварач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да масти методом топљења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2287080"/>
            <a:ext cx="86868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920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ши се ради добијања препарата са нижом концентрацијом лековите супстанце (педијатријски пацијент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еђују се помоћу индиферентних подлога, ако није другачије прописано, истог типа подлоге која је у индустријски израђеном препара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ракси се ра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ђивање врши амбифилним подлогама у различитим односима (1:1; 1:2; 1:5; 1:10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к употребе - 14 дана од израде п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P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7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 или крем са кортикостероид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еђивање готових масти и крем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е получврстих препарата за примену на кож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2060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Eur.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0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h. Eur.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м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лов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т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плаз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и фласте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мални фласте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23640" y="2301840"/>
            <a:ext cx="824364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266760" indent="-22860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бно се припремају масна и водена фаз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266760" indent="-22860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кови и масне материје које су у чврстом стању, отопе се на воденом купатилу и загреју на температуру између 60-80 °С (за хидрофилне кремове не испод 70 °С) и у врућој уљаној фази растворе све неиспарљиве липосолубилне компоненте које су састојци масне фаз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266760" indent="-22860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исана количина пречишћене воде загреје се на температуру која је за 2 – 5 °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иша од температуре масне фазе, и у њој растворе све хидросолубилне - термостабилне супстанце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266760" indent="-22860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улгатор се раствара у једној од фаза у зависности од особин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26676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ДА КРЕМОВА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а топљења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0560" y="1267920"/>
            <a:ext cx="769932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4" marL="348480" indent="-223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гано али континуирано додаје се топла водена у топлу масну фазу, уз стално, енергично и пажљиво мешање да дође до емулговања, без инкорпорирања ваздуха; затим, док је систем још течан пропушта кроз хомогенизатор и хлади уз благо мешање до хлађења, док не очврс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8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8480" indent="-223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лабилне, испарљиве компоненте се додају на температури 40 – 45 °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8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8480" indent="-223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филни кремови се морају конзервисати због великог садржаја воде. Конзерванс или смеша конзерванаса се обавезно растварају у воденој фаз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8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8480" indent="-223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мови типа У/В без конзерванса не могу се чувати дуже од 1 месеца.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8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ЛОВ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врсти препарати који се састоје од течности која је гелирана погодним гелирају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 средством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Деле се 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фобне-липофилне геле (олеогеле)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и парафин гелиран са полиетиленом  или масна уља гелирана алуминијум стеара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филне геле (хидрогеле)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, пропиленгликол или глицерол гелирани карбомером или дериватима целулоз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57200" y="1413000"/>
            <a:ext cx="3898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лирајућа средств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0,5 – 30%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нтон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тријум-алги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ксиетилцелулоза и други деривати целуло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боме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винилалкох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ро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ат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-Al-силик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3"/>
          <p:cNvSpPr/>
          <p:nvPr/>
        </p:nvSpPr>
        <p:spPr>
          <a:xfrm>
            <a:off x="4859280" y="1413000"/>
            <a:ext cx="403380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зерванси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ијум-сорб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рбинска кисе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бинација сорбинск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. и К-сорб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тријум-бензо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да гел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9280" y="2214720"/>
            <a:ext cx="8001000" cy="46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огућити хидратацију (бубрење) гелирајућег средства у делу или целокупној количини течне фаз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а суспстанца може да се раствори у делу или целокупној количини течне фазе или ређе да се суспендује у припремљену гел подло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зерванс се у току израде гела раствори у води са или без додатка корастварач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изглед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искозитет и микробиолошки квалите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дређивање количине лековите супстанце и конзерван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2071800"/>
            <a:ext cx="82486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те су получврсти препарати који садрже велики удео ситних, чврстих супстанци (15 до 50 %) диспергованих (суспендованих) у подлози од липофилних састојака, без в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асте супстанце: цинк-оксид, титан-диоксид, талк, скроб, салицилна кисел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ање на кожи: упијање секрета и исушивање кож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хронични екцем, псоријаза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 подлога користе се липофилни састојци без воде (бели вазелин или мешавине са ланолином или маслиновим уље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4000" y="1061640"/>
            <a:ext cx="800244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916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920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рде паст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ко 50 % чврстих супстанци): делују покривно и исушујућ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ке паст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д 15 до 30 % чврстих супстанц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код суве коже и влажних екц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28584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inci oxydi past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J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F 200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inci pasta salicylat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Jug. I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изглед, конзистенција, хемијска стабилност, хомогено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323640" y="2349000"/>
            <a:ext cx="80010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лед препарата /органолептички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ај лековите супстан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илност (за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ulent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за велике ране и опекотин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зистенција подлоге и лековите масти (пенетромета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олошке карактеристике препарата (ротациони вискозиметар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ени број - способност емулговања во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3,5 – 8,0/ - потенциометриј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 емулзије (кондуктометријск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394920" y="981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 лековитих масти, кремова и ге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 лековитих масти, кремова и гел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2492280"/>
            <a:ext cx="822960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 величине чест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биолошки квалитет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категорија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 размазив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 ослобађања активне супстанце из получврстих препарата за кож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ност (физичка:на собној и повишеној темп. 40-50 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хемијска: у току чувања – промен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нцентрације лековите супстанце, оксидација масних састојака, фотостабилност, микробиолошка стабилнос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и локалне дерматотерап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а супстанца се бира на основу врсте дерматозе а подлога према стадијуму боле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филне подлоге (хидрогели, хидрофилни кремови) – терапија акутних, влажних дерматоза, дерматоза праћених сврабом јер хладе и донекле суше кож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пофилне подлоге (масни кремови, олеогелови) – терапија хроничних, сувих дерматоза јер спречавају губитак воде из коже (оклузивни ефекат), чине кожу мекшом и еластичниј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оненте получврстих препарат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2638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ЛЕКОВИТА(Е) СУПСТАНЦА(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ДЛОГ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IPI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СТАЛЕ помоћне супстанце (конзерванси, хумектанси, антиоксиданси, средства за гелирање итд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s://www.youtube.com/watch?v=hualGfSQPq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е супстан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3628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СЕПТИЦИ: </a:t>
            </a:r>
            <a:r>
              <a:rPr b="0" lang="sr-C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на киселина, повидон – јод, бензалконијум-хлорид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СТРИ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i="1" lang="sr-C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СИ: </a:t>
            </a:r>
            <a:r>
              <a:rPr b="0" lang="sr-Latn-C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O,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змут-субгалат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ИНФЛАМАТОРНА СРЕДСТВ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МОГЛУКОКОРТИКОИДИ: </a:t>
            </a:r>
            <a:r>
              <a:rPr b="0" lang="sr-C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уоцинолон, кортизолон, бетаметазон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БИОТИЦИ: </a:t>
            </a:r>
            <a:r>
              <a:rPr b="0" lang="sr-C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тамицин, хлорамфеникол, бацитрацин, неомицин, клиндамицин</a:t>
            </a:r>
            <a:r>
              <a:rPr b="1" lang="sr-C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МИКОТИЦИ: </a:t>
            </a:r>
            <a:r>
              <a:rPr b="0" lang="sr-C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статин, кетоконазол, миконазо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ОТЕРАПЕУТИЦИ: </a:t>
            </a:r>
            <a:r>
              <a:rPr b="0" lang="sr-C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ронидазо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ТРАНОЛ </a:t>
            </a:r>
            <a:r>
              <a:rPr b="0" lang="sr-C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а лецење псоријазе</a:t>
            </a:r>
            <a:r>
              <a:rPr b="0" lang="sr-Latn-C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лога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ipiens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баз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хикулум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лога је носач лековите супстанце, састављен од једне или више помоћних супстанци, али и сама испољава ефекат (емолијентни, заштитн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окомпонентна подлог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пр. бели вазелин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екомпонентна подлога (две и више компонент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ни састојци (угљоводоници, воскови, масне киселине, биљна уља, масни алкохоли, синтетско уље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чишћена вод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за гелирањ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улгатор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зерванси, антиоксиданси (по потреби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мектанси </a:t>
            </a:r>
            <a:r>
              <a:rPr b="0" lang="sr-Latn-C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ине подлоге за получврсте препарате за примену на кож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и и хемијски стабил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тибилна са већином лековитих супстан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изазива иритацију кож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мириса и бо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се лако размазује по површини кож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оставља танак, невидљив филм на кож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ава пенетрацију лека у дубље слојеве кож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слобађање супстанце, пенетрација кроз stratum corneum, дифузија кроз епидермис и дермис у зависности од деловања лек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ор подлог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916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и 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е обољења које се л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а кож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ости пациј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а примене (лице, тело, гла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ине супстанце која се инкорпор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е брзине ослобађања лековите супстанце (брже из хидрогела, спорије из масти типа суспензиј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0</cp:lastModifiedBy>
  <dcterms:modified xsi:type="dcterms:W3CDTF">2022-11-15T11:10:30Z</dcterms:modified>
  <cp:revision>275</cp:revision>
  <dc:subject/>
  <dc:title>Slide 1</dc:title>
</cp:coreProperties>
</file>